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BC9-E92E-459B-AB31-F8179C38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DDD-E6AD-4F7E-B9AC-E4CEA756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D3E-3651-4943-8692-69B4C3AC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2D6-E979-4EF6-BA0A-4D5832D0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47BC-A3CE-4C51-95B6-3A7F51E2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C665-A171-4FC2-B8CA-55E509B9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4635-7DE0-4041-89BD-F205D205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62DF-C2B7-48E8-8995-28F0FE37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46BD-74F4-4BDD-8F59-4D2720A2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D3F5-0EAE-4A26-B599-3530A3C2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5A97-D2AB-41EE-9749-7C822100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EDF-48EC-46ED-BD96-22E72CE2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D893-75D4-4C19-B6F1-0A35DF4B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5B22-98DE-40D8-BD54-FFB73450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2892-2DB7-4CBA-9BC5-5FDBD621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1BB1-54D0-42C2-BB51-0C04C877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0CC0-543E-4787-9B9C-C9B7CC63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145-ADB4-4FC9-A18A-750D1480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06B-4C8D-4F0B-A5CB-347E7471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292-B438-41F0-90B5-8BB1BD87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018-4D66-4738-BFCE-A49C51BC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EAE-C77F-473E-95C6-1797A831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9E7-4A69-456F-BBB6-AECDD33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3A5-3701-4E7A-8BAF-2BDD9E6B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E0D1-AC15-41DA-B452-F0113540EB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C4C6-EFEA-4626-A720-E73078C5282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shzhendan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900" spc="-1" strike="noStrike">
                <a:solidFill>
                  <a:srgbClr val="006633"/>
                </a:solidFill>
                <a:latin typeface="Garamond"/>
                <a:ea typeface="方正舒体"/>
              </a:rPr>
              <a:t>传感器及其应用电路课程设计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1" descr=""/>
          <p:cNvPicPr/>
          <p:nvPr/>
        </p:nvPicPr>
        <p:blipFill>
          <a:blip r:embed="rId1"/>
          <a:stretch/>
        </p:blipFill>
        <p:spPr>
          <a:xfrm>
            <a:off x="179280" y="291960"/>
            <a:ext cx="6164280" cy="4392720"/>
          </a:xfrm>
          <a:prstGeom prst="rect">
            <a:avLst/>
          </a:prstGeom>
          <a:ln w="0">
            <a:noFill/>
          </a:ln>
        </p:spPr>
      </p:pic>
      <p:sp>
        <p:nvSpPr>
          <p:cNvPr id="184" name="圆角矩形标注 3"/>
          <p:cNvSpPr/>
          <p:nvPr/>
        </p:nvSpPr>
        <p:spPr>
          <a:xfrm>
            <a:off x="5724360" y="1197000"/>
            <a:ext cx="3419640" cy="1511280"/>
          </a:xfrm>
          <a:prstGeom prst="wedgeRoundRectCallout">
            <a:avLst>
              <a:gd name="adj1" fmla="val -63472"/>
              <a:gd name="adj2" fmla="val 90356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产品提供的外形尺寸，可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参考，但应该按照机械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设计要求，完成详细设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并按制图标准绘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395280" y="4545000"/>
            <a:ext cx="8459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：虽然为避免重题指定了传感器结构型式，但设计中仍要求通过查阅资料，根据设计技术指标，提出不同方案进行比较论证。在系统总体方案确定后，结构部分、电路部分的设计方案可以分别进行方案论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8"/>
          <p:cNvSpPr/>
          <p:nvPr/>
        </p:nvSpPr>
        <p:spPr>
          <a:xfrm>
            <a:off x="684360" y="2205000"/>
            <a:ext cx="830556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设计与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计算弹性元件受力后的应力分布及大小，选择合理的布片位置，应尽可能把应变片粘贴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据弹性元件材料的许用弯曲应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σ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许用剪切应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τ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安全系数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验证抗弯和抗剪强度 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重新取整尺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9"/>
          <p:cNvSpPr/>
          <p:nvPr/>
        </p:nvSpPr>
        <p:spPr>
          <a:xfrm>
            <a:off x="684360" y="17478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材料的选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1"/>
          <p:cNvSpPr/>
          <p:nvPr/>
        </p:nvSpPr>
        <p:spPr>
          <a:xfrm>
            <a:off x="684360" y="333360"/>
            <a:ext cx="58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弹性元件的设计与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2"/>
          <p:cNvSpPr/>
          <p:nvPr/>
        </p:nvSpPr>
        <p:spPr>
          <a:xfrm>
            <a:off x="684360" y="981000"/>
            <a:ext cx="82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结构的选择（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已指定，但在设计说明书中要根据量程、灵敏度、精度等指标提出两种方案进行分析论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4360" y="4844880"/>
            <a:ext cx="8246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弹性元件相关的结构附件，如固定、承力、基座等部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绘制弹性元件零件图，注意绘图规范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书中完成弹性元件加工工艺性分析和工艺路线制定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684360" y="765000"/>
            <a:ext cx="7920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注意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21d02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形状简单的梁，在单向应力（零至最大的循环）下工作，为了保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次以上的寿命，许用应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应取弹性极限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以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21d02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形状复杂的弹性元件，如膜盒、波纹管等，在多变应力下工作，为了减小滞后，许用应力至多只能取弹性极限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左右；对于长期受载和测量用的弹簧，也应取较低的许用应力（如取弹性极限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1/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21d02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承受静载荷的弹性元件，许用应力可以允许接近弹性极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21d02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总之，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既要留超载余量，同时要尽量提高灵敏度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468360" y="333360"/>
            <a:ext cx="844848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应变片的选择计算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要抄书，重点是选择的依据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材（线膨胀系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电阻温度系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机械性能等确定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据使用场合、范围选形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据使用场合、范围选基底、引线材料和粘合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应变片的主要参数、尺寸选择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通过选择，要求给出应变片的型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传感器外型（外观）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括外壳、固定、输入输出（承力头）、封装等，在设计说明书中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清楚设计思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绘制装配图，装配关系要表达清楚，标注装配尺寸、外观尺寸等。注意装配图绘制规范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95280" y="260280"/>
            <a:ext cx="83534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6633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系统电路的设计、计算与仿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桥路的设计计算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含电源电路设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注意：供桥电压的选择应考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应变片的面积；②应变片的电阻；③传感器的散热能力；④环境温度；⑤应变片的类型；⑥传感器（测试对象）的材料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对全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大电路的设计与参数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它相关电路（如检波、滤波、输出显示等）的设计与参数计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要求最终显示被测量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电路原理图绘制、仿真。每个电路单元的仿真结果在说明书中展示。</a:t>
            </a:r>
            <a:r>
              <a:rPr b="1" lang="zh-CN" sz="2400" spc="-1" strike="noStrike">
                <a:solidFill>
                  <a:srgbClr val="f2f2f2"/>
                </a:solidFill>
                <a:latin typeface="Times New Roman"/>
              </a:rPr>
              <a:t>，制作电路，调试成功。（建议结合制作的单片机系统，应变传感器实验室可以提供，但电路自己设计并制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1835280" y="3141720"/>
          <a:ext cx="242064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141720"/>
                    <a:ext cx="24206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6"/>
          <p:cNvSpPr/>
          <p:nvPr/>
        </p:nvSpPr>
        <p:spPr>
          <a:xfrm>
            <a:off x="4427640" y="2852640"/>
            <a:ext cx="4321080" cy="1092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：应变片电阻；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：敏感栅面积；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：敏感栅上的功率密度，可取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6~3.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×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/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7"/>
          <p:cNvGrpSpPr/>
          <p:nvPr/>
        </p:nvGrpSpPr>
        <p:grpSpPr>
          <a:xfrm>
            <a:off x="438120" y="1824120"/>
            <a:ext cx="7991640" cy="1156320"/>
            <a:chOff x="438120" y="1824120"/>
            <a:chExt cx="7991640" cy="1156320"/>
          </a:xfrm>
        </p:grpSpPr>
        <p:sp>
          <p:nvSpPr>
            <p:cNvPr id="198" name="Rectangle 4"/>
            <p:cNvSpPr/>
            <p:nvPr/>
          </p:nvSpPr>
          <p:spPr>
            <a:xfrm>
              <a:off x="492120" y="1824120"/>
              <a:ext cx="489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33"/>
                  </a:solidFill>
                  <a:latin typeface="黑体"/>
                  <a:ea typeface="黑体"/>
                </a:rPr>
                <a:t>7.</a:t>
              </a:r>
              <a:r>
                <a:rPr b="1" lang="zh-CN" sz="3200" spc="-1" strike="noStrike">
                  <a:solidFill>
                    <a:srgbClr val="006633"/>
                  </a:solidFill>
                  <a:latin typeface="黑体"/>
                  <a:ea typeface="黑体"/>
                </a:rPr>
                <a:t>误差来源与补偿分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"/>
            <p:cNvSpPr/>
            <p:nvPr/>
          </p:nvSpPr>
          <p:spPr>
            <a:xfrm>
              <a:off x="438120" y="2520720"/>
              <a:ext cx="799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说明书中应对系统的误差进行分析讨论。方法：分析系统结构部分、电路部分各主要环节误差来源，说明有无采取修正或补偿措施。（误差分析同组成员应该共同完成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3"/>
          <p:cNvSpPr/>
          <p:nvPr/>
        </p:nvSpPr>
        <p:spPr>
          <a:xfrm>
            <a:off x="365040" y="39448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黑体"/>
                <a:ea typeface="黑体"/>
              </a:rPr>
              <a:t>8.</a:t>
            </a:r>
            <a:r>
              <a:rPr b="1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按学校课程设计说明书撰写规范撰写设计说明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打印说明书时请注意排版！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600120" y="29520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系统部分实物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"/>
          <p:cNvSpPr/>
          <p:nvPr/>
        </p:nvSpPr>
        <p:spPr>
          <a:xfrm>
            <a:off x="582480" y="874800"/>
            <a:ext cx="790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情况完成系统电路部分实物制作调试（要求同组成员均参加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06520" y="5022720"/>
            <a:ext cx="80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5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书注意不要抄教材基本内容，写清楚设计思路、计算过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85640" y="4437000"/>
            <a:ext cx="8064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黑体"/>
                <a:ea typeface="黑体"/>
              </a:rPr>
              <a:t>9.</a:t>
            </a:r>
            <a:r>
              <a:rPr b="1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附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要求计算机制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6633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路原理图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负责设计电路的同学必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6633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机械制图标准绘制传感器装配图、弹性元件图各一张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负责设计结构的同学必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24000" y="260280"/>
            <a:ext cx="871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5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组成员总体系统方案应该一起讨论，通过论证比较，选择一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5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总体方案框图一致前提下，负责结构设计的同学可以重点阐述具体结构方案的比较选择，负责电路设计的同学重点对电路方案、元器件选择等进行分析比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5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书应该重点阐述自己负责设计的部分，同组不要完全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5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书最后要求列出参考文献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不少于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中必须有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1~2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篇杂志论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注意参考文献必须在正文中标注引用，参考文献列出格式符合规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24000" y="609480"/>
            <a:ext cx="882000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四、设计参考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传感器技术手册  主编：袁希光   国防工业出版社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8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（</a:t>
            </a:r>
            <a:r>
              <a:rPr b="1" lang="zh-CN" sz="2400" spc="-1" strike="noStrike">
                <a:solidFill>
                  <a:srgbClr val="a21d02"/>
                </a:solidFill>
                <a:latin typeface="Tahoma"/>
              </a:rPr>
              <a:t>机电学院</a:t>
            </a:r>
            <a:r>
              <a:rPr b="1" lang="en-US" sz="2400" spc="-1" strike="noStrike">
                <a:solidFill>
                  <a:srgbClr val="a21d02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a21d02"/>
                </a:solidFill>
                <a:latin typeface="Tahoma"/>
              </a:rPr>
              <a:t>楼图书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应变电测与传感技术  主编：郑秀瑗， 国防工业出版社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电阻应变式传感器   陶宝琪主编 机械工业出版社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9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电阻应变式传感器应用技术  王云章主编 机械工业出版社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99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传感器设计基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课程设计与毕业设计指南    单成祥等 国防工业出版社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21d02"/>
                </a:solidFill>
                <a:latin typeface="Times New Roman"/>
                <a:ea typeface="华文新魏"/>
              </a:rPr>
              <a:t>注：书籍可在学校网站“数字图书馆”的“超星电子图书”下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20640"/>
            <a:ext cx="8228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五、课设时间及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课设时间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7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周，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周。答疑联系相关指导教师。要求课设期间每周指导教师检查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62120" y="609480"/>
            <a:ext cx="79246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、课程设计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程设计的目的主要是通过设计环节的实际训练，加深学生对课程基础知识和基本理论的理解和掌握，培养学生综合运用所学知识的能力，使之在理论分析、设计、计算、制图、运用标准和规范、查阅设计手册与资料、专业软件应用、实践动手能力等方面得到初步训练，促进学生养成严谨求实的科学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68360" y="19080"/>
            <a:ext cx="84484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二、课程设计任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21d02"/>
                </a:solidFill>
                <a:latin typeface="Times New Roman"/>
                <a:ea typeface="华文新魏"/>
              </a:rPr>
              <a:t>题 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于电阻应变片的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× × 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感器设计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21d02"/>
                </a:solidFill>
                <a:latin typeface="Times New Roman"/>
                <a:ea typeface="华文新魏"/>
              </a:rPr>
              <a:t>初始条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于电阻应变片设计一款电阻应变式传感器及其系统应用电路。被测量可以是针对测力、称重、测压力、测位移、测加速度等实际应用背景，传感器量程根据应用要求自己设定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两人一组，明确任务分工（建议按机械结构部分、系统电路部分分工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协作完成传感器机械结构、系统电路设计、分析计算、仿真、绘制成图、实物制作等任务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211640" y="2158920"/>
            <a:ext cx="15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电阻应变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059280" y="2519280"/>
            <a:ext cx="1164960" cy="71640"/>
          </a:xfrm>
          <a:prstGeom prst="rightArrow">
            <a:avLst>
              <a:gd name="adj1" fmla="val 50000"/>
              <a:gd name="adj2" fmla="val 40653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5724360" y="2519280"/>
            <a:ext cx="1224000" cy="144720"/>
          </a:xfrm>
          <a:prstGeom prst="rightArrow">
            <a:avLst>
              <a:gd name="adj1" fmla="val 50000"/>
              <a:gd name="adj2" fmla="val 21144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11280" y="2232000"/>
            <a:ext cx="1009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测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131920" y="2016000"/>
            <a:ext cx="916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弹性敏感元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19280" y="2374920"/>
            <a:ext cx="533520" cy="144360"/>
          </a:xfrm>
          <a:prstGeom prst="rightArrow">
            <a:avLst>
              <a:gd name="adj1" fmla="val 50000"/>
              <a:gd name="adj2" fmla="val 9239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3"/>
          <p:cNvGrpSpPr/>
          <p:nvPr/>
        </p:nvGrpSpPr>
        <p:grpSpPr>
          <a:xfrm>
            <a:off x="2843280" y="857160"/>
            <a:ext cx="2228760" cy="1214640"/>
            <a:chOff x="2843280" y="857160"/>
            <a:chExt cx="2228760" cy="1214640"/>
          </a:xfrm>
        </p:grpSpPr>
        <p:sp>
          <p:nvSpPr>
            <p:cNvPr id="97" name="AutoShape 39"/>
            <p:cNvSpPr/>
            <p:nvPr/>
          </p:nvSpPr>
          <p:spPr>
            <a:xfrm>
              <a:off x="2843280" y="857160"/>
              <a:ext cx="2228760" cy="1214640"/>
            </a:xfrm>
            <a:prstGeom prst="cloudCallout">
              <a:avLst>
                <a:gd name="adj1" fmla="val -22796"/>
                <a:gd name="adj2" fmla="val 8684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"/>
            <p:cNvSpPr/>
            <p:nvPr/>
          </p:nvSpPr>
          <p:spPr>
            <a:xfrm>
              <a:off x="3058920" y="107928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应变</a:t>
              </a:r>
              <a:r>
                <a:rPr b="1" lang="el-GR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ε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应力</a:t>
              </a:r>
              <a:r>
                <a:rPr b="1" lang="el-GR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σ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挠度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6948360" y="2133720"/>
            <a:ext cx="865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测量电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8"/>
          <p:cNvSpPr/>
          <p:nvPr/>
        </p:nvSpPr>
        <p:spPr>
          <a:xfrm rot="16200000">
            <a:off x="7956360" y="2374920"/>
            <a:ext cx="144720" cy="433440"/>
          </a:xfrm>
          <a:prstGeom prst="downArrow">
            <a:avLst>
              <a:gd name="adj1" fmla="val 50000"/>
              <a:gd name="adj2" fmla="val 7487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1476360" y="189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电阻应变式传感器组成原理框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54"/>
          <p:cNvGrpSpPr/>
          <p:nvPr/>
        </p:nvGrpSpPr>
        <p:grpSpPr>
          <a:xfrm>
            <a:off x="5715000" y="1000080"/>
            <a:ext cx="1306440" cy="1143000"/>
            <a:chOff x="5715000" y="1000080"/>
            <a:chExt cx="1306440" cy="1143000"/>
          </a:xfrm>
        </p:grpSpPr>
        <p:sp>
          <p:nvSpPr>
            <p:cNvPr id="103" name="AutoShape 40"/>
            <p:cNvSpPr/>
            <p:nvPr/>
          </p:nvSpPr>
          <p:spPr>
            <a:xfrm>
              <a:off x="5715000" y="1000080"/>
              <a:ext cx="1285920" cy="1143000"/>
            </a:xfrm>
            <a:prstGeom prst="cloudCallout">
              <a:avLst>
                <a:gd name="adj1" fmla="val -15388"/>
                <a:gd name="adj2" fmla="val 85685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5940360" y="1224000"/>
              <a:ext cx="10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电阻变化</a:t>
              </a:r>
              <a:r>
                <a:rPr b="1" lang="el-GR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Δ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41"/>
          <p:cNvSpPr/>
          <p:nvPr/>
        </p:nvSpPr>
        <p:spPr>
          <a:xfrm>
            <a:off x="5580000" y="3527280"/>
            <a:ext cx="86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2"/>
          <p:cNvSpPr/>
          <p:nvPr/>
        </p:nvSpPr>
        <p:spPr>
          <a:xfrm>
            <a:off x="6443640" y="3743280"/>
            <a:ext cx="9367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3"/>
          <p:cNvSpPr/>
          <p:nvPr/>
        </p:nvSpPr>
        <p:spPr>
          <a:xfrm>
            <a:off x="5076720" y="3743280"/>
            <a:ext cx="5032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4"/>
          <p:cNvSpPr/>
          <p:nvPr/>
        </p:nvSpPr>
        <p:spPr>
          <a:xfrm flipV="1">
            <a:off x="7380360" y="3024000"/>
            <a:ext cx="0" cy="718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5"/>
          <p:cNvSpPr/>
          <p:nvPr/>
        </p:nvSpPr>
        <p:spPr>
          <a:xfrm flipV="1">
            <a:off x="5076720" y="3024000"/>
            <a:ext cx="0" cy="718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6"/>
          <p:cNvSpPr/>
          <p:nvPr/>
        </p:nvSpPr>
        <p:spPr>
          <a:xfrm>
            <a:off x="7286760" y="907920"/>
            <a:ext cx="1643040" cy="1152720"/>
          </a:xfrm>
          <a:prstGeom prst="cloudCallout">
            <a:avLst>
              <a:gd name="adj1" fmla="val -10550"/>
              <a:gd name="adj2" fmla="val 898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可用电量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0"/>
          <p:cNvSpPr/>
          <p:nvPr/>
        </p:nvSpPr>
        <p:spPr>
          <a:xfrm>
            <a:off x="8204040" y="2133720"/>
            <a:ext cx="865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理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标注 47"/>
          <p:cNvSpPr/>
          <p:nvPr/>
        </p:nvSpPr>
        <p:spPr>
          <a:xfrm>
            <a:off x="642960" y="4286160"/>
            <a:ext cx="2214720" cy="857520"/>
          </a:xfrm>
          <a:prstGeom prst="wedgeRoundRectCallout">
            <a:avLst>
              <a:gd name="adj1" fmla="val 26277"/>
              <a:gd name="adj2" fmla="val -183986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机械结构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算（优化设计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标注 49"/>
          <p:cNvSpPr/>
          <p:nvPr/>
        </p:nvSpPr>
        <p:spPr>
          <a:xfrm>
            <a:off x="3357720" y="4429080"/>
            <a:ext cx="1714320" cy="500040"/>
          </a:xfrm>
          <a:prstGeom prst="wedgeRoundRectCallout">
            <a:avLst>
              <a:gd name="adj1" fmla="val 26277"/>
              <a:gd name="adj2" fmla="val -346523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应变片的选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标注 50"/>
          <p:cNvSpPr/>
          <p:nvPr/>
        </p:nvSpPr>
        <p:spPr>
          <a:xfrm>
            <a:off x="7000920" y="4286160"/>
            <a:ext cx="1500120" cy="857520"/>
          </a:xfrm>
          <a:prstGeom prst="wedgeRoundRectCallout">
            <a:avLst>
              <a:gd name="adj1" fmla="val 25129"/>
              <a:gd name="adj2" fmla="val -21361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电路设计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制作调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286160" y="1087560"/>
            <a:ext cx="15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电阻应变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133800" y="1447920"/>
            <a:ext cx="1165320" cy="71280"/>
          </a:xfrm>
          <a:prstGeom prst="rightArrow">
            <a:avLst>
              <a:gd name="adj1" fmla="val 50000"/>
              <a:gd name="adj2" fmla="val 40871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5799240" y="144792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85800" y="1160640"/>
            <a:ext cx="100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测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206800" y="944640"/>
            <a:ext cx="915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弹性敏感元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693800" y="1303200"/>
            <a:ext cx="533520" cy="144720"/>
          </a:xfrm>
          <a:prstGeom prst="rightArrow">
            <a:avLst>
              <a:gd name="adj1" fmla="val 50000"/>
              <a:gd name="adj2" fmla="val 921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7023240" y="1062000"/>
            <a:ext cx="865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测量电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8"/>
          <p:cNvSpPr/>
          <p:nvPr/>
        </p:nvSpPr>
        <p:spPr>
          <a:xfrm rot="16200000">
            <a:off x="8031240" y="1303200"/>
            <a:ext cx="144360" cy="43308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1717560" y="2142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电阻应变式传感器组成原理框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654520" y="2455920"/>
            <a:ext cx="8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2"/>
          <p:cNvSpPr/>
          <p:nvPr/>
        </p:nvSpPr>
        <p:spPr>
          <a:xfrm>
            <a:off x="6518160" y="2671920"/>
            <a:ext cx="9367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3"/>
          <p:cNvSpPr/>
          <p:nvPr/>
        </p:nvSpPr>
        <p:spPr>
          <a:xfrm>
            <a:off x="5151600" y="2671920"/>
            <a:ext cx="5029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4"/>
          <p:cNvSpPr/>
          <p:nvPr/>
        </p:nvSpPr>
        <p:spPr>
          <a:xfrm flipV="1">
            <a:off x="7454880" y="1952640"/>
            <a:ext cx="0" cy="719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5"/>
          <p:cNvSpPr/>
          <p:nvPr/>
        </p:nvSpPr>
        <p:spPr>
          <a:xfrm flipV="1">
            <a:off x="5151600" y="1952640"/>
            <a:ext cx="0" cy="719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1333440" y="3078000"/>
            <a:ext cx="6408720" cy="797400"/>
            <a:chOff x="1333440" y="3078000"/>
            <a:chExt cx="6408720" cy="797400"/>
          </a:xfrm>
        </p:grpSpPr>
        <p:sp>
          <p:nvSpPr>
            <p:cNvPr id="130" name="Text Box 47"/>
            <p:cNvSpPr/>
            <p:nvPr/>
          </p:nvSpPr>
          <p:spPr>
            <a:xfrm>
              <a:off x="2342880" y="3365280"/>
              <a:ext cx="863640" cy="510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33"/>
                  </a:solidFill>
                  <a:latin typeface="Tahoma"/>
                </a:rPr>
                <a:t>H</a:t>
              </a:r>
              <a:r>
                <a:rPr b="0" lang="en-US" sz="2400" spc="-1" strike="noStrike" baseline="-25000">
                  <a:solidFill>
                    <a:srgbClr val="006633"/>
                  </a:solidFill>
                  <a:latin typeface="Tahoma"/>
                </a:rPr>
                <a:t>1</a:t>
              </a:r>
              <a:r>
                <a:rPr b="0" lang="en-US" sz="2400" spc="-1" strike="noStrike">
                  <a:solidFill>
                    <a:srgbClr val="006633"/>
                  </a:solidFill>
                  <a:latin typeface="Tahoma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8"/>
            <p:cNvSpPr/>
            <p:nvPr/>
          </p:nvSpPr>
          <p:spPr>
            <a:xfrm>
              <a:off x="3998880" y="3365280"/>
              <a:ext cx="863640" cy="510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33"/>
                  </a:solidFill>
                  <a:latin typeface="Tahoma"/>
                </a:rPr>
                <a:t>H</a:t>
              </a:r>
              <a:r>
                <a:rPr b="0" lang="en-US" sz="2400" spc="-1" strike="noStrike" baseline="-25000">
                  <a:solidFill>
                    <a:srgbClr val="006633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6633"/>
                  </a:solidFill>
                  <a:latin typeface="Tahoma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9"/>
            <p:cNvSpPr/>
            <p:nvPr/>
          </p:nvSpPr>
          <p:spPr>
            <a:xfrm>
              <a:off x="5798880" y="3365280"/>
              <a:ext cx="863640" cy="510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33"/>
                  </a:solidFill>
                  <a:latin typeface="Tahoma"/>
                </a:rPr>
                <a:t>H</a:t>
              </a:r>
              <a:r>
                <a:rPr b="0" lang="en-US" sz="2400" spc="-1" strike="noStrike" baseline="-25000">
                  <a:solidFill>
                    <a:srgbClr val="006633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6633"/>
                  </a:solidFill>
                  <a:latin typeface="Tahoma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0"/>
            <p:cNvSpPr/>
            <p:nvPr/>
          </p:nvSpPr>
          <p:spPr>
            <a:xfrm>
              <a:off x="1333440" y="3581280"/>
              <a:ext cx="1009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1"/>
            <p:cNvSpPr/>
            <p:nvPr/>
          </p:nvSpPr>
          <p:spPr>
            <a:xfrm>
              <a:off x="3206520" y="3581280"/>
              <a:ext cx="793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862520" y="3581280"/>
              <a:ext cx="9363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3"/>
            <p:cNvSpPr/>
            <p:nvPr/>
          </p:nvSpPr>
          <p:spPr>
            <a:xfrm>
              <a:off x="6662520" y="3581280"/>
              <a:ext cx="1009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4"/>
            <p:cNvSpPr/>
            <p:nvPr/>
          </p:nvSpPr>
          <p:spPr>
            <a:xfrm>
              <a:off x="1406520" y="3149280"/>
              <a:ext cx="5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(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5"/>
            <p:cNvSpPr/>
            <p:nvPr/>
          </p:nvSpPr>
          <p:spPr>
            <a:xfrm>
              <a:off x="3278160" y="3078000"/>
              <a:ext cx="6476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6"/>
            <p:cNvSpPr/>
            <p:nvPr/>
          </p:nvSpPr>
          <p:spPr>
            <a:xfrm>
              <a:off x="5006880" y="3078000"/>
              <a:ext cx="6476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7"/>
            <p:cNvSpPr/>
            <p:nvPr/>
          </p:nvSpPr>
          <p:spPr>
            <a:xfrm>
              <a:off x="7094520" y="307800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(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68"/>
          <p:cNvGrpSpPr/>
          <p:nvPr/>
        </p:nvGrpSpPr>
        <p:grpSpPr>
          <a:xfrm>
            <a:off x="571680" y="4000680"/>
            <a:ext cx="6365160" cy="1064160"/>
            <a:chOff x="571680" y="4000680"/>
            <a:chExt cx="6365160" cy="1064160"/>
          </a:xfrm>
        </p:grpSpPr>
        <p:sp>
          <p:nvSpPr>
            <p:cNvPr id="142" name="Text Box 58"/>
            <p:cNvSpPr/>
            <p:nvPr/>
          </p:nvSpPr>
          <p:spPr>
            <a:xfrm>
              <a:off x="571680" y="4071960"/>
              <a:ext cx="19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21d02"/>
                  </a:solidFill>
                  <a:latin typeface="Tahoma"/>
                </a:rPr>
                <a:t>传递函数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67"/>
            <p:cNvGrpSpPr/>
            <p:nvPr/>
          </p:nvGrpSpPr>
          <p:grpSpPr>
            <a:xfrm>
              <a:off x="2443320" y="4000680"/>
              <a:ext cx="4493520" cy="1064160"/>
              <a:chOff x="2443320" y="4000680"/>
              <a:chExt cx="4493520" cy="1064160"/>
            </a:xfrm>
          </p:grpSpPr>
          <p:grpSp>
            <p:nvGrpSpPr>
              <p:cNvPr id="144" name="Group 62"/>
              <p:cNvGrpSpPr/>
              <p:nvPr/>
            </p:nvGrpSpPr>
            <p:grpSpPr>
              <a:xfrm>
                <a:off x="2443320" y="4000680"/>
                <a:ext cx="719280" cy="1064160"/>
                <a:chOff x="2443320" y="4000680"/>
                <a:chExt cx="719280" cy="1064160"/>
              </a:xfrm>
            </p:grpSpPr>
            <p:sp>
              <p:nvSpPr>
                <p:cNvPr id="145" name="Text Box 59"/>
                <p:cNvSpPr/>
                <p:nvPr/>
              </p:nvSpPr>
              <p:spPr>
                <a:xfrm>
                  <a:off x="2514600" y="4000680"/>
                  <a:ext cx="648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Y(s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 Box 60"/>
                <p:cNvSpPr/>
                <p:nvPr/>
              </p:nvSpPr>
              <p:spPr>
                <a:xfrm>
                  <a:off x="2514600" y="4361040"/>
                  <a:ext cx="5763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X(s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61"/>
                <p:cNvSpPr/>
                <p:nvPr/>
              </p:nvSpPr>
              <p:spPr>
                <a:xfrm>
                  <a:off x="2443320" y="4432320"/>
                  <a:ext cx="64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Text Box 63"/>
              <p:cNvSpPr/>
              <p:nvPr/>
            </p:nvSpPr>
            <p:spPr>
              <a:xfrm>
                <a:off x="3162600" y="42166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64"/>
              <p:cNvSpPr/>
              <p:nvPr/>
            </p:nvSpPr>
            <p:spPr>
              <a:xfrm>
                <a:off x="3522960" y="4216680"/>
                <a:ext cx="302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(s) 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(s) 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(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65"/>
              <p:cNvSpPr/>
              <p:nvPr/>
            </p:nvSpPr>
            <p:spPr>
              <a:xfrm>
                <a:off x="5899320" y="42166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66"/>
              <p:cNvSpPr/>
              <p:nvPr/>
            </p:nvSpPr>
            <p:spPr>
              <a:xfrm>
                <a:off x="6201360" y="4216680"/>
                <a:ext cx="73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H(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70"/>
          <p:cNvSpPr/>
          <p:nvPr/>
        </p:nvSpPr>
        <p:spPr>
          <a:xfrm>
            <a:off x="8278920" y="1062000"/>
            <a:ext cx="865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理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68"/>
          <p:cNvGrpSpPr/>
          <p:nvPr/>
        </p:nvGrpSpPr>
        <p:grpSpPr>
          <a:xfrm>
            <a:off x="571680" y="4857840"/>
            <a:ext cx="5857200" cy="685800"/>
            <a:chOff x="571680" y="4857840"/>
            <a:chExt cx="5857200" cy="685800"/>
          </a:xfrm>
        </p:grpSpPr>
        <p:sp>
          <p:nvSpPr>
            <p:cNvPr id="154" name="Text Box 58"/>
            <p:cNvSpPr/>
            <p:nvPr/>
          </p:nvSpPr>
          <p:spPr>
            <a:xfrm>
              <a:off x="571680" y="485784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21d02"/>
                  </a:solidFill>
                  <a:latin typeface="Tahoma"/>
                </a:rPr>
                <a:t>总灵敏度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67"/>
            <p:cNvGrpSpPr/>
            <p:nvPr/>
          </p:nvGrpSpPr>
          <p:grpSpPr>
            <a:xfrm>
              <a:off x="2428560" y="4857840"/>
              <a:ext cx="4000320" cy="685800"/>
              <a:chOff x="2428560" y="4857840"/>
              <a:chExt cx="4000320" cy="685800"/>
            </a:xfrm>
          </p:grpSpPr>
          <p:sp>
            <p:nvSpPr>
              <p:cNvPr id="156" name="Text Box 60"/>
              <p:cNvSpPr/>
              <p:nvPr/>
            </p:nvSpPr>
            <p:spPr>
              <a:xfrm>
                <a:off x="2513880" y="5146920"/>
                <a:ext cx="576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63"/>
              <p:cNvSpPr/>
              <p:nvPr/>
            </p:nvSpPr>
            <p:spPr>
              <a:xfrm>
                <a:off x="2428560" y="4857840"/>
                <a:ext cx="40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K=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 ·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 ·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组合 57"/>
          <p:cNvGrpSpPr/>
          <p:nvPr/>
        </p:nvGrpSpPr>
        <p:grpSpPr>
          <a:xfrm>
            <a:off x="897840" y="5286240"/>
            <a:ext cx="2902680" cy="871560"/>
            <a:chOff x="897840" y="5286240"/>
            <a:chExt cx="2902680" cy="871560"/>
          </a:xfrm>
        </p:grpSpPr>
        <p:sp>
          <p:nvSpPr>
            <p:cNvPr id="159" name="矩形 55"/>
            <p:cNvSpPr/>
            <p:nvPr/>
          </p:nvSpPr>
          <p:spPr>
            <a:xfrm>
              <a:off x="897840" y="5500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21d02"/>
                  </a:solidFill>
                  <a:latin typeface="Tahoma"/>
                </a:rPr>
                <a:t>总误差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0" name="Object 2"/>
            <p:cNvGraphicFramePr/>
            <p:nvPr/>
          </p:nvGraphicFramePr>
          <p:xfrm>
            <a:off x="2428920" y="5286240"/>
            <a:ext cx="1371600" cy="87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8920" y="5286240"/>
                      <a:ext cx="137160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4"/>
          <p:cNvSpPr/>
          <p:nvPr/>
        </p:nvSpPr>
        <p:spPr>
          <a:xfrm>
            <a:off x="1267920" y="260280"/>
            <a:ext cx="226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设计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5"/>
          <p:cNvSpPr/>
          <p:nvPr/>
        </p:nvSpPr>
        <p:spPr>
          <a:xfrm>
            <a:off x="515880" y="1579680"/>
            <a:ext cx="70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6633"/>
                </a:solidFill>
                <a:latin typeface="黑体"/>
                <a:ea typeface="黑体"/>
              </a:rPr>
              <a:t>根据任务书要求，进行方案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684360" y="103032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21d02"/>
                </a:solidFill>
                <a:latin typeface="黑体"/>
                <a:ea typeface="黑体"/>
              </a:rPr>
              <a:t>设计总原则：灵敏度设计，强度校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684360" y="5589720"/>
            <a:ext cx="8459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s://www.shzhendan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海振丹传感器仪表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" descr=""/>
          <p:cNvPicPr/>
          <p:nvPr/>
        </p:nvPicPr>
        <p:blipFill>
          <a:blip r:embed="rId2"/>
          <a:stretch/>
        </p:blipFill>
        <p:spPr>
          <a:xfrm>
            <a:off x="847800" y="2158920"/>
            <a:ext cx="706896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"/>
          <p:cNvSpPr/>
          <p:nvPr/>
        </p:nvSpPr>
        <p:spPr>
          <a:xfrm>
            <a:off x="179280" y="333360"/>
            <a:ext cx="896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设方案选择说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以负责传感器结构设计的同学学号最末一位，对应选择如下方案，具体内容可参考网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217440" y="2492280"/>
            <a:ext cx="2770200" cy="30067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2" descr=""/>
          <p:cNvPicPr/>
          <p:nvPr/>
        </p:nvPicPr>
        <p:blipFill>
          <a:blip r:embed="rId2"/>
          <a:stretch/>
        </p:blipFill>
        <p:spPr>
          <a:xfrm>
            <a:off x="3780000" y="2852640"/>
            <a:ext cx="2097000" cy="26672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3" descr=""/>
          <p:cNvPicPr/>
          <p:nvPr/>
        </p:nvPicPr>
        <p:blipFill>
          <a:blip r:embed="rId3"/>
          <a:stretch/>
        </p:blipFill>
        <p:spPr>
          <a:xfrm>
            <a:off x="6516720" y="2852640"/>
            <a:ext cx="237960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4"/>
          <p:cNvSpPr/>
          <p:nvPr/>
        </p:nvSpPr>
        <p:spPr>
          <a:xfrm>
            <a:off x="468360" y="2276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                            1                    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124000" cy="25718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4" descr=""/>
          <p:cNvPicPr/>
          <p:nvPr/>
        </p:nvPicPr>
        <p:blipFill>
          <a:blip r:embed="rId2"/>
          <a:stretch/>
        </p:blipFill>
        <p:spPr>
          <a:xfrm>
            <a:off x="3492360" y="642960"/>
            <a:ext cx="2124360" cy="25909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5" descr=""/>
          <p:cNvPicPr/>
          <p:nvPr/>
        </p:nvPicPr>
        <p:blipFill>
          <a:blip r:embed="rId3"/>
          <a:stretch/>
        </p:blipFill>
        <p:spPr>
          <a:xfrm>
            <a:off x="6804000" y="463680"/>
            <a:ext cx="2133720" cy="27144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" descr=""/>
          <p:cNvPicPr/>
          <p:nvPr/>
        </p:nvPicPr>
        <p:blipFill>
          <a:blip r:embed="rId4"/>
          <a:stretch/>
        </p:blipFill>
        <p:spPr>
          <a:xfrm>
            <a:off x="25560" y="3503520"/>
            <a:ext cx="2344680" cy="25923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1" descr=""/>
          <p:cNvPicPr/>
          <p:nvPr/>
        </p:nvPicPr>
        <p:blipFill>
          <a:blip r:embed="rId5"/>
          <a:stretch/>
        </p:blipFill>
        <p:spPr>
          <a:xfrm>
            <a:off x="2540160" y="3719520"/>
            <a:ext cx="2019240" cy="24289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2" descr=""/>
          <p:cNvPicPr/>
          <p:nvPr/>
        </p:nvPicPr>
        <p:blipFill>
          <a:blip r:embed="rId6"/>
          <a:stretch/>
        </p:blipFill>
        <p:spPr>
          <a:xfrm>
            <a:off x="7118280" y="3573360"/>
            <a:ext cx="1905120" cy="241956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3" descr=""/>
          <p:cNvPicPr/>
          <p:nvPr/>
        </p:nvPicPr>
        <p:blipFill>
          <a:blip r:embed="rId7"/>
          <a:stretch/>
        </p:blipFill>
        <p:spPr>
          <a:xfrm>
            <a:off x="4729320" y="3521160"/>
            <a:ext cx="2162160" cy="26002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8"/>
          <p:cNvSpPr/>
          <p:nvPr/>
        </p:nvSpPr>
        <p:spPr>
          <a:xfrm>
            <a:off x="324000" y="2635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                            4                       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9"/>
          <p:cNvSpPr/>
          <p:nvPr/>
        </p:nvSpPr>
        <p:spPr>
          <a:xfrm>
            <a:off x="474840" y="3311640"/>
            <a:ext cx="79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                      7                      8                  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"/>
          <p:cNvPicPr/>
          <p:nvPr/>
        </p:nvPicPr>
        <p:blipFill>
          <a:blip r:embed="rId1"/>
          <a:stretch/>
        </p:blipFill>
        <p:spPr>
          <a:xfrm>
            <a:off x="463680" y="404640"/>
            <a:ext cx="8540640" cy="5688360"/>
          </a:xfrm>
          <a:prstGeom prst="rect">
            <a:avLst/>
          </a:prstGeom>
          <a:ln w="0">
            <a:noFill/>
          </a:ln>
        </p:spPr>
      </p:pic>
      <p:sp>
        <p:nvSpPr>
          <p:cNvPr id="182" name="圆角矩形标注 2"/>
          <p:cNvSpPr/>
          <p:nvPr/>
        </p:nvSpPr>
        <p:spPr>
          <a:xfrm>
            <a:off x="3708360" y="549360"/>
            <a:ext cx="5113440" cy="2087640"/>
          </a:xfrm>
          <a:prstGeom prst="wedgeRoundRectCallout">
            <a:avLst>
              <a:gd name="adj1" fmla="val -52347"/>
              <a:gd name="adj2" fmla="val 76962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参考产品介绍、技术指标进行设计（多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程的产品选一个量程进行设计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注意：提供的资料仅作参考，不要在说明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中复制粘贴产品介绍及图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般仅需在设计指标中明确量程、灵敏度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综合精度、过载能力四项核心指标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03:01:46Z</dcterms:created>
  <dc:creator>1</dc:creator>
  <dc:description/>
  <dc:language>en-US</dc:language>
  <cp:lastModifiedBy>Mr.ddddd</cp:lastModifiedBy>
  <dcterms:modified xsi:type="dcterms:W3CDTF">2022-12-05T09:51:46Z</dcterms:modified>
  <cp:revision>183</cp:revision>
  <dc:subject/>
  <dc:title>传感器原理课程设计</dc:title>
</cp:coreProperties>
</file>